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484C-33AD-4C90-8CEB-34BA146E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06CB-040F-4D41-BA0F-2AC4D45D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B26C-5AD9-4C7B-8C2A-107CBE4D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462F-C54E-49D2-8882-CBC306A5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3062-9DAB-406E-86E9-29FE16A8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9AC9-2B45-4775-8507-DD83A62B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2872-0D53-4D98-AFF3-91A23DD4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9B57-BCBF-4713-8ABE-7255E748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0248-8CFB-43A5-AB0B-49E5D81C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CD64-9E15-405E-91AC-300ABA95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58C3-15EA-4FFD-98C4-C55DD654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8191-D77A-45E4-B3E4-B5820DAF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EA1C-D6A0-443D-B19A-CC5A5ED3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59E1-38ED-46ED-BC9A-2E5B3EAC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0221-B66B-4225-A8C6-34B4378D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6D02-E4FD-4AF5-90C8-80E1E6A0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E625-2321-4F8C-BCC4-F641E723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71C8-0FE0-42FB-AC2A-3EB4C904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2659-0191-471A-B7DB-6BBB651E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C394-0E25-4236-A5A0-9714208E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249-7B1E-4B16-A74A-26A1DEBC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A889-A344-40A1-A766-9357FDDD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A47A-302D-43B3-BD9A-F9ADEBCF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E163-6B78-4D03-89F1-58DFC385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C6FB-3FF9-4335-BCE5-A686EBB03CC6}" type="slidenum">
              <a:rPr b="0" lang="lt-L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F586-6216-4429-BF7F-B137AE338280}" type="slidenum">
              <a:rPr b="0" lang="lt-L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ASMENYBĖS TEOR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78040" y="3781440"/>
            <a:ext cx="6045120" cy="19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INDIVIDUALIOJI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ADLER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nkavertiškumo jausmas, komplek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Organų menkavertišku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erdėta glob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Atstūmim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anašumo siek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yvenimo stili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dominavimo gyvenimo stili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gavimo gyvenimo stil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vengimo stil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socialiai naudingas gyvenimo stil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INDIVIDUALIOJI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ADLER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is inter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imimo eilišku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irmasi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ntrasi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Jauniausia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ieninteli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BIHEVIORISTINĖS ASMENYBĖS TEORIJOS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.Pavlovas: klasikinis sąlygoj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Oprantinio elgesio teorija (B.F.Skinner): operantinis sąlygojimas, pastiprinimo sch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HUMANISTINĖS PSICHOLOGIJOS ASMENYBĖS TEORIJOS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C.ROGERS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Organizmas ir bazinė tendencija aktualizuo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tyrimų (fenomenų) lauk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š ir Aš suvok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eigiamo vertinimo poreikis ir sąlyginis vert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esąlyginis teigiamas vert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HUMANISTINĖS PSICHOLOGIJOS ASMENYBĖS TEORIJOS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MASLOW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oreikių hierarch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5.Saviaktualizacijos poreik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4.Poreikis pagarb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3.Poreikis priklausyti ir meilės poreik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2.Saugumo poreik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1.Fiziologiniai poreiki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SOCIALINIO MOKYMOSI TEOR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BANDURA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deliavimas: modelio charakteristikos, stebėtojo charakteristikos, su elgesiu susiję paskatinim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ys, įsiminimas, atgaminimas, paskat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avęs pastipr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avo efektyvumo vert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Z.Froida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360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Z.Froidas: asmenybės struktūra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6000" y="1988640"/>
            <a:ext cx="5832360" cy="3745440"/>
            <a:chOff x="1476000" y="1988640"/>
            <a:chExt cx="5832360" cy="3745440"/>
          </a:xfrm>
        </p:grpSpPr>
        <p:sp>
          <p:nvSpPr>
            <p:cNvPr id="102" name=""/>
            <p:cNvSpPr/>
            <p:nvPr/>
          </p:nvSpPr>
          <p:spPr>
            <a:xfrm rot="10800000">
              <a:off x="1476000" y="1988280"/>
              <a:ext cx="5832360" cy="3745080"/>
            </a:xfrm>
            <a:custGeom>
              <a:avLst/>
              <a:gdLst>
                <a:gd name="textAreaLeft" fmla="*/ 1282320 w 5832360"/>
                <a:gd name="textAreaRight" fmla="*/ 4550040 w 5832360"/>
                <a:gd name="textAreaTop" fmla="*/ 823320 h 3745080"/>
                <a:gd name="textAreaBottom" fmla="*/ 2921760 h 374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79760" y="2702160"/>
              <a:ext cx="36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64400" y="3593880"/>
              <a:ext cx="425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52440" y="2167200"/>
              <a:ext cx="126072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lt-LT" sz="2000" spc="-1" strike="noStrike">
                  <a:solidFill>
                    <a:srgbClr val="000000"/>
                  </a:solidFill>
                  <a:latin typeface="Tahoma"/>
                </a:rPr>
                <a:t>Sąmonė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52440" y="2880360"/>
              <a:ext cx="189144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ahoma"/>
                </a:rPr>
                <a:t>Priešsąmonė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37080" y="3772080"/>
              <a:ext cx="2206800" cy="71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lt-LT" sz="2000" spc="-1" strike="noStrike">
                  <a:solidFill>
                    <a:srgbClr val="000000"/>
                  </a:solidFill>
                  <a:latin typeface="Tahoma"/>
                </a:rPr>
                <a:t>Pasąmonė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209760" y="1989000"/>
              <a:ext cx="1103400" cy="3745080"/>
            </a:xfrm>
            <a:prstGeom prst="line">
              <a:avLst/>
            </a:prstGeom>
            <a:ln w="284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83160" y="4128840"/>
              <a:ext cx="2994840" cy="0"/>
            </a:xfrm>
            <a:prstGeom prst="line">
              <a:avLst/>
            </a:prstGeom>
            <a:ln w="284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28880" y="2880360"/>
              <a:ext cx="1418400" cy="71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EG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71200" y="4489200"/>
              <a:ext cx="1733760" cy="89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03480" y="3950640"/>
              <a:ext cx="1418400" cy="12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SUP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EG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0033"/>
                </a:solidFill>
                <a:latin typeface="Tahoma"/>
              </a:rPr>
              <a:t>Z. FROIDO PSIHOANALITINĖ ASMENYBĖS TEORIJA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struktūra: id, Ego, Super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Id: malonumo principas, refleksyvūs veiksmai, pirminiai proces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Ego (Aš): realybės principas, antriniai psichiniai proces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Superego: introjekcijos mechaniz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0033"/>
                </a:solidFill>
                <a:latin typeface="Tahoma"/>
              </a:rPr>
              <a:t>Z. FROIDO PSIHOANALITINĖ ASMENYBĖS TEORIJA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er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Ego gynybiniai mechanizm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Išstūmi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rojek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Reakcijos formavi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Fiksa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Regres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Identifika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akeitimai (pvz., sublimacij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smenybės raidos stadijos pagal </a:t>
            </a:r>
            <a:br>
              <a:rPr sz="3200"/>
            </a:br>
            <a:r>
              <a:rPr b="0" lang="en-GB" sz="3200" spc="-1" strike="noStrike">
                <a:solidFill>
                  <a:srgbClr val="330033"/>
                </a:solidFill>
                <a:latin typeface="Tahoma"/>
              </a:rPr>
              <a:t>Z. </a:t>
            </a: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Froidą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ystymosi stadi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Oralinė (nuo gimimo iki 18 mėn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nalinė (18 mėn. – 3 m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Falinė (3-6 m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Edipo, Elektros kompleks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Latentinė (6-12 m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Genitalinė (ėmus lytiškai bręst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041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NALITINĖ (gelmių)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C.G. JUNG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struktūra: Ego, individuali pasąmonė, kolektyvinė pasąmon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lektyvinė pasąmonė: archetip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nima ir Anim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Šešėl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Savast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NALITINĖ (gelmių)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C.G. JUNG 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kstraversija ir intravers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ąstymas, jausmai, pojūčiai ir intui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vystyma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aikystė ir jaunyst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idutinis amžius ir senatv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2:59:09Z</dcterms:created>
  <dc:creator>TADAS</dc:creator>
  <dc:description/>
  <dc:language>en-US</dc:language>
  <cp:lastModifiedBy> </cp:lastModifiedBy>
  <dcterms:modified xsi:type="dcterms:W3CDTF">2007-11-06T14:30:22Z</dcterms:modified>
  <cp:revision>17</cp:revision>
  <dc:subject/>
  <dc:title>INDIVIDAS IR ASMENYBĖ</dc:title>
</cp:coreProperties>
</file>